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B3E-A5CF-4B2F-A0AC-0A490BC7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D69-4EEA-4E6E-A8B6-D4227DE5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6E4-DDB8-4986-B238-A4455B66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3C2-664F-4EAC-8F1C-B8EE52DD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16C-0FA5-485A-8BAB-62B02BEB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DCF-A4F0-4B07-81CD-51AC5176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83A-E3B5-4634-A0C4-C0D7447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3E7-F9CC-4700-AD6A-74E3CA6F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CD9-B8C6-4E46-B3DA-F01BD6A2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096-0F73-46C8-8122-10D199F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A41-5975-44EA-AE99-6B80E139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892-173F-439A-9B5F-C16900B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BD6E0-EF04-4363-B910-F362F05EE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github.com/eishay/jvm-serializers/wiki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de.google.com/apis/protocolbuffers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de.google.com/apis/protocolbuffers/docs/proto.html#scalar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de.google.com/p/protobuf/" TargetMode="External"/><Relationship Id="rId2" Type="http://schemas.openxmlformats.org/officeDocument/2006/relationships/hyperlink" Target="http://code.google.com/p/protoclipse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hcache.org/documentation/user-guide/jgroups-replicated-cachin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son.org/example.html" TargetMode="External"/><Relationship Id="rId2" Type="http://schemas.openxmlformats.org/officeDocument/2006/relationships/hyperlink" Target="http://en.wikipedia.org/wiki/YA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õrgurakenduse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õrd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github.com/eishay/jvm-serializers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Protocol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de.google.com/apis/protocolbuff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think XML, but smaller, faster, and simpler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, C++, or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"Third Party Add On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.../wiki/ThirdPartyAd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 + code 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õnumivahe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Procedure Call –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. ei sisalda oma RPC p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Description Language – 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pr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pr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619280"/>
            <a:ext cx="7020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messa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requir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tring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d int32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option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tring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enu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honeTyp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BIL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ME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K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messa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honeNumb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d string number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hone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ype = 2 [default = HOM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repeat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honeNumber phone =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metüüb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ndmetüü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tream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eeri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eritud protok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ö. "tagurpidi ühilduv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k. backwards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4140360"/>
            <a:ext cx="24606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(version == 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else if (version &gt; 4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f (version == 5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Buffers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de.google.com/p/protobuf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ode.google.com/p/protoclips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rotoBuf natur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proto in 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oc --cpp_out=mingikataloom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erson.pr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32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c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protobuf.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Protocol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vo A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ift.apach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mbedded R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eerimist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versioon ei tööta W32 platvor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Dokumentatsi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580000" y="1979640"/>
            <a:ext cx="3957840" cy="2337840"/>
            <a:chOff x="5580000" y="1979640"/>
            <a:chExt cx="3957840" cy="2337840"/>
          </a:xfrm>
        </p:grpSpPr>
        <p:sp>
          <p:nvSpPr>
            <p:cNvPr id="111" name=""/>
            <p:cNvSpPr/>
            <p:nvPr/>
          </p:nvSpPr>
          <p:spPr>
            <a:xfrm>
              <a:off x="5580000" y="2954880"/>
              <a:ext cx="3957840" cy="136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4320" y="3441960"/>
              <a:ext cx="826920" cy="58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4840" y="3441960"/>
              <a:ext cx="827280" cy="58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42280" y="3441960"/>
              <a:ext cx="827280" cy="58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64320" y="3148560"/>
              <a:ext cx="826920" cy="19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84840" y="3148560"/>
              <a:ext cx="827280" cy="19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42280" y="3148560"/>
              <a:ext cx="827280" cy="19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5280" y="1979640"/>
              <a:ext cx="827280" cy="58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"/>
            <p:cNvCxnSpPr/>
            <p:nvPr/>
          </p:nvCxnSpPr>
          <p:spPr>
            <a:xfrm>
              <a:off x="7559280" y="2564280"/>
              <a:ext cx="1080" cy="389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hCache + J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eplicated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3975120"/>
            <a:ext cx="5040000" cy="1784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73640" y="4613400"/>
            <a:ext cx="1055520" cy="765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46880" y="4613400"/>
            <a:ext cx="1054080" cy="765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56480" y="4613400"/>
            <a:ext cx="1054080" cy="76500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73640" y="4230720"/>
            <a:ext cx="1055520" cy="25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46880" y="4230720"/>
            <a:ext cx="1054080" cy="25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56480" y="4230720"/>
            <a:ext cx="1054080" cy="25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2600" y="2700360"/>
            <a:ext cx="1055520" cy="765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6659640" y="3465360"/>
            <a:ext cx="2160" cy="5119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31" name=""/>
          <p:cNvSpPr/>
          <p:nvPr/>
        </p:nvSpPr>
        <p:spPr>
          <a:xfrm>
            <a:off x="6840360" y="5040360"/>
            <a:ext cx="721080" cy="72072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199280" y="5040360"/>
            <a:ext cx="5428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217840" y="4317480"/>
            <a:ext cx="1803240" cy="126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478560" y="4319280"/>
            <a:ext cx="542880" cy="108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199280" y="4317840"/>
            <a:ext cx="539640" cy="90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4" idx="3"/>
            <a:endCxn id="45" idx="1"/>
          </p:cNvCxnSpPr>
          <p:nvPr/>
        </p:nvCxnSpPr>
        <p:spPr>
          <a:xfrm>
            <a:off x="3060360" y="2879280"/>
            <a:ext cx="36010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8" idx="3"/>
            <a:endCxn id="49" idx="1"/>
          </p:cNvCxnSpPr>
          <p:nvPr/>
        </p:nvCxnSpPr>
        <p:spPr>
          <a:xfrm>
            <a:off x="3060360" y="2879280"/>
            <a:ext cx="36010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1" name=""/>
          <p:cNvSpPr/>
          <p:nvPr/>
        </p:nvSpPr>
        <p:spPr>
          <a:xfrm>
            <a:off x="4500720" y="3224160"/>
            <a:ext cx="966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3"/>
            <a:endCxn id="54" idx="1"/>
          </p:cNvCxnSpPr>
          <p:nvPr/>
        </p:nvCxnSpPr>
        <p:spPr>
          <a:xfrm>
            <a:off x="3060360" y="2879280"/>
            <a:ext cx="36010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6" name=""/>
          <p:cNvSpPr/>
          <p:nvPr/>
        </p:nvSpPr>
        <p:spPr>
          <a:xfrm>
            <a:off x="4500720" y="3224160"/>
            <a:ext cx="1309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 jms.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440000"/>
            <a:ext cx="161928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8" idx="3"/>
            <a:endCxn id="61" idx="1"/>
          </p:cNvCxnSpPr>
          <p:nvPr/>
        </p:nvCxnSpPr>
        <p:spPr>
          <a:xfrm>
            <a:off x="3060360" y="2879280"/>
            <a:ext cx="108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61" name=""/>
          <p:cNvSpPr/>
          <p:nvPr/>
        </p:nvSpPr>
        <p:spPr>
          <a:xfrm>
            <a:off x="4140360" y="2340000"/>
            <a:ext cx="161892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3"/>
            <a:endCxn id="59" idx="1"/>
          </p:cNvCxnSpPr>
          <p:nvPr/>
        </p:nvCxnSpPr>
        <p:spPr>
          <a:xfrm flipV="1">
            <a:off x="5758920" y="1979280"/>
            <a:ext cx="90108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63" name=""/>
          <p:cNvSpPr/>
          <p:nvPr/>
        </p:nvSpPr>
        <p:spPr>
          <a:xfrm>
            <a:off x="6659640" y="3600360"/>
            <a:ext cx="1619280" cy="10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3"/>
            <a:endCxn id="63" idx="1"/>
          </p:cNvCxnSpPr>
          <p:nvPr/>
        </p:nvCxnSpPr>
        <p:spPr>
          <a:xfrm>
            <a:off x="5758920" y="2879640"/>
            <a:ext cx="901080" cy="126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5" name=""/>
          <p:cNvCxnSpPr>
            <a:stCxn id="59" idx="2"/>
            <a:endCxn id="63" idx="0"/>
          </p:cNvCxnSpPr>
          <p:nvPr/>
        </p:nvCxnSpPr>
        <p:spPr>
          <a:xfrm>
            <a:off x="7470360" y="2518920"/>
            <a:ext cx="2520" cy="10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0000" y="2340000"/>
            <a:ext cx="161928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59640" y="1440000"/>
            <a:ext cx="1619280" cy="10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7" idx="3"/>
            <a:endCxn id="70" idx="1"/>
          </p:cNvCxnSpPr>
          <p:nvPr/>
        </p:nvCxnSpPr>
        <p:spPr>
          <a:xfrm>
            <a:off x="3060360" y="2879280"/>
            <a:ext cx="108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0" name=""/>
          <p:cNvSpPr/>
          <p:nvPr/>
        </p:nvSpPr>
        <p:spPr>
          <a:xfrm>
            <a:off x="4140360" y="2340000"/>
            <a:ext cx="161892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3"/>
            <a:endCxn id="68" idx="1"/>
          </p:cNvCxnSpPr>
          <p:nvPr/>
        </p:nvCxnSpPr>
        <p:spPr>
          <a:xfrm flipV="1">
            <a:off x="5758920" y="1979280"/>
            <a:ext cx="90108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2" name=""/>
          <p:cNvSpPr/>
          <p:nvPr/>
        </p:nvSpPr>
        <p:spPr>
          <a:xfrm>
            <a:off x="6659640" y="3600360"/>
            <a:ext cx="1619280" cy="10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70" idx="3"/>
            <a:endCxn id="72" idx="1"/>
          </p:cNvCxnSpPr>
          <p:nvPr/>
        </p:nvCxnSpPr>
        <p:spPr>
          <a:xfrm>
            <a:off x="5758920" y="2879640"/>
            <a:ext cx="901080" cy="126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4" name=""/>
          <p:cNvCxnSpPr>
            <a:stCxn id="68" idx="2"/>
            <a:endCxn id="72" idx="0"/>
          </p:cNvCxnSpPr>
          <p:nvPr/>
        </p:nvCxnSpPr>
        <p:spPr>
          <a:xfrm>
            <a:off x="7470360" y="2518920"/>
            <a:ext cx="2520" cy="10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0000" y="3780000"/>
            <a:ext cx="7740360" cy="251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e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4680000"/>
            <a:ext cx="16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00360" y="4680000"/>
            <a:ext cx="16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0360" y="4680000"/>
            <a:ext cx="16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0360" y="4140360"/>
            <a:ext cx="1619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0360" y="4140360"/>
            <a:ext cx="1619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0360" y="4140360"/>
            <a:ext cx="1619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1979640"/>
            <a:ext cx="1618920" cy="1079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75" idx="0"/>
          </p:cNvCxnSpPr>
          <p:nvPr/>
        </p:nvCxnSpPr>
        <p:spPr>
          <a:xfrm>
            <a:off x="5310360" y="3060720"/>
            <a:ext cx="2160" cy="72144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N (B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son.org/exampl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Y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2-09-14T07:27:43Z</dcterms:modified>
  <cp:revision>77</cp:revision>
  <dc:subject/>
  <dc:title/>
</cp:coreProperties>
</file>